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4C4F-4429-4840-8CA1-710CD69FD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160F-139F-4F31-9BA4-78E33D1FC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80CA-B333-4FB2-9EFD-86A05970C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FA8A-59C3-4F7B-8329-E4A01A0D44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85D8-C575-4519-BD7F-0611F51A4B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CF52-B566-4CDA-B4DD-78FA7346B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6E3F-BC51-44AF-8A80-4F335E8DF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381A-6B51-4FB9-9F86-634CCE0B3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710E-B28C-4582-B9D2-591BAB2FC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6B94-1DE6-466B-A0D9-83CB2B552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17A0-85B8-4064-A504-A58D68052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3EE8-3E68-4A6B-935C-D25E8536C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69CA-8C02-46A3-9C91-B4A58A3185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0" name="Content Placeholder 7" descr="Screen shot 2011-08-16 at 4.50.08 PM.png"/>
          <p:cNvPicPr/>
          <p:nvPr/>
        </p:nvPicPr>
        <p:blipFill>
          <a:blip r:embed="rId1"/>
          <a:srcRect l="0" t="-105131" r="0" b="-105131"/>
          <a:stretch/>
        </p:blipFill>
        <p:spPr>
          <a:xfrm>
            <a:off x="457200" y="-228600"/>
            <a:ext cx="4038480" cy="6477120"/>
          </a:xfrm>
          <a:prstGeom prst="rect">
            <a:avLst/>
          </a:prstGeom>
          <a:ln w="0">
            <a:noFill/>
          </a:ln>
        </p:spPr>
      </p:pic>
      <p:sp>
        <p:nvSpPr>
          <p:cNvPr id="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032E-D07B-43F4-8212-BCE66E053A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304920" y="4419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sten Jennifer   Carla  C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464832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ia      Sandy    Sue   L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ontent Placeholder 12" descr="Screen shot 2011-08-16 at 4.52.47 PM.png"/>
          <p:cNvPicPr/>
          <p:nvPr/>
        </p:nvPicPr>
        <p:blipFill>
          <a:blip r:embed="rId2"/>
          <a:srcRect l="0" t="-3644" r="0" b="-3644"/>
          <a:stretch/>
        </p:blipFill>
        <p:spPr>
          <a:xfrm>
            <a:off x="4648320" y="1905120"/>
            <a:ext cx="40384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004B-0344-4E08-A575-E31563A547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0492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issa Lori    Barb  H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495680" y="441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y MaryLou Tracey Chri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13" descr="Screen shot 2011-08-16 at 4.55.48 PM.png"/>
          <p:cNvPicPr/>
          <p:nvPr/>
        </p:nvPicPr>
        <p:blipFill>
          <a:blip r:embed="rId1"/>
          <a:srcRect l="0" t="-2514" r="1887" b="-8042"/>
          <a:stretch/>
        </p:blipFill>
        <p:spPr>
          <a:xfrm>
            <a:off x="380880" y="160020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14" descr="Screen shot 2011-08-16 at 4.59.36 PM.png"/>
          <p:cNvPicPr/>
          <p:nvPr/>
        </p:nvPicPr>
        <p:blipFill>
          <a:blip r:embed="rId2"/>
          <a:srcRect l="0" t="-8690" r="0" b="-8690"/>
          <a:stretch/>
        </p:blipFill>
        <p:spPr>
          <a:xfrm>
            <a:off x="4648320" y="1447920"/>
            <a:ext cx="4038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ADA8-511F-4594-9B0E-0FA98541BC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ie Heather   Heather Nik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4495680" y="441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    Tracy    Renee      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11" descr="Screen shot 2011-08-16 at 5.01.05 PM.png"/>
          <p:cNvPicPr/>
          <p:nvPr/>
        </p:nvPicPr>
        <p:blipFill>
          <a:blip r:embed="rId1"/>
          <a:srcRect l="0" t="-26268" r="0" b="-847"/>
          <a:stretch/>
        </p:blipFill>
        <p:spPr>
          <a:xfrm>
            <a:off x="457200" y="16002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6" descr="Screen shot 2011-08-16 at 5.02.30 PM.png"/>
          <p:cNvPicPr/>
          <p:nvPr/>
        </p:nvPicPr>
        <p:blipFill>
          <a:blip r:embed="rId2"/>
          <a:srcRect l="0" t="-6232" r="0" b="3544"/>
          <a:stretch/>
        </p:blipFill>
        <p:spPr>
          <a:xfrm>
            <a:off x="4648320" y="198108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D847-2F73-4BC8-B589-4E6034B696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572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  Megan   Daria   M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5" descr="Screen shot 2011-08-17 at 11.20.32 AM.png"/>
          <p:cNvPicPr/>
          <p:nvPr/>
        </p:nvPicPr>
        <p:blipFill>
          <a:blip r:embed="rId1"/>
          <a:srcRect l="0" t="-7448" r="0" b="-7448"/>
          <a:stretch/>
        </p:blipFill>
        <p:spPr>
          <a:xfrm>
            <a:off x="457200" y="1600200"/>
            <a:ext cx="4038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0:47:45Z</dcterms:created>
  <dc:creator>CSC</dc:creator>
  <dc:description/>
  <cp:keywords/>
  <dc:language>en-US</dc:language>
  <cp:lastModifiedBy>Kathy Kubota-Zarivnij</cp:lastModifiedBy>
  <dcterms:modified xsi:type="dcterms:W3CDTF">2011-08-19T12:56:21Z</dcterms:modified>
  <cp:revision>16</cp:revision>
  <dc:subject/>
  <dc:title>&lt;Title&gt;</dc:title>
</cp:coreProperties>
</file>